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9FD4-F4AA-403F-9214-FAD36B301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A248-4B3B-4609-8C17-6B07478B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1646-4174-4FB2-8B59-38A1C81DA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9477-5D8F-4597-BC8A-AC054E8BB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BF3D-ED03-48D1-9F8A-CC9C92C3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7930-EEE5-45C9-8ECA-01761DB8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817F-3791-42A9-B8C6-C074F10A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7661-8231-41B5-90E1-1ED8A6F0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5C44-CB08-4ABB-AC1B-1F699493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8B36-E7D4-48DB-AC5F-CB38A1E8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2B13-DCB5-4FB9-BD68-2D2C9B47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1FAD-A3B4-4C4A-9C3D-B7FADB43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530A-BC44-4C39-AE19-3B4000ADB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62920" y="4267080"/>
            <a:ext cx="175248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hael Ed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/11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895480" y="762120"/>
            <a:ext cx="42674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Gatorade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191120" y="3200400"/>
            <a:ext cx="1695240" cy="2581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81080" y="2286000"/>
            <a:ext cx="1204920" cy="1814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82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32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48278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0991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Cade"/>
          <p:cNvPicPr/>
          <p:nvPr/>
        </p:nvPicPr>
        <p:blipFill>
          <a:blip r:embed="rId1"/>
          <a:stretch/>
        </p:blipFill>
        <p:spPr>
          <a:xfrm>
            <a:off x="0" y="0"/>
            <a:ext cx="8991720" cy="2773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128040" y="3962520"/>
            <a:ext cx="46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merson MIT Program, Gato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obert Cade 5/16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ttp://web.mit.edu/invent/iow/i-archive-c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Cade"/>
          <p:cNvPicPr/>
          <p:nvPr/>
        </p:nvPicPr>
        <p:blipFill>
          <a:blip r:embed="rId2"/>
          <a:stretch/>
        </p:blipFill>
        <p:spPr>
          <a:xfrm>
            <a:off x="2895480" y="5334120"/>
            <a:ext cx="342900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vention/Gato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orade helped athletes recover more quickly after worko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e got the name Gatorade from the college football team called the G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orade was well on its way to world wide sales in the bill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orade became the household name when the tradition of pouring the Gatorade jug over the head of the winning team’s coach at the end of the super bowl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more than 15 flavors of Gator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/Robert C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e was born in 1917 in Flor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e was trained at the University of Texas Medical School in Da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e worked as a professor of medicine and physiology there conducting research on kidney and liver disease, diabetes, hypertension and other illn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e also studies Down syndrome, autism and certain types of schizophrenia and develops diets to help these patients improve or recov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while, in 1973, Cade and the University of Florida were able to strike a deal that allows the university to reap royal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2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17:58:47Z</dcterms:created>
  <dc:creator>install</dc:creator>
  <dc:description/>
  <dc:language>en-US</dc:language>
  <cp:lastModifiedBy>install</cp:lastModifiedBy>
  <dcterms:modified xsi:type="dcterms:W3CDTF">2011-06-01T17:36:34Z</dcterms:modified>
  <cp:revision>7</cp:revision>
  <dc:subject/>
  <dc:title>Slide 1</dc:title>
</cp:coreProperties>
</file>